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54DF-C17A-4D56-9A60-BE851349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EAF9-0B9A-44EB-BB02-D73127B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F19C-2534-4446-A3CB-5DA53B78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E614-A667-4079-8DC2-F86D0D71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777-3565-4F11-AC1C-CC00733E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89A-6AC1-4A37-81A6-B5CAC75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DAA-41AA-423E-822F-B9F4B57F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4220-721C-41CB-865F-FDC6AB5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331A-16B9-4DDA-9984-5A4AB79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4B8D-F84B-4016-AF38-E4DF46F6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9B66-C4F0-48F3-89B7-572DCB4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74D2-171E-440C-BAB1-B88C8FCA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396C-EF52-4E81-B7AA-D14A32E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912-5822-4646-8DE3-F728BE5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B41-9275-4F5A-A86B-2C35E2D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2325-02A4-4916-AF70-7F4E711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6C06-B467-42D0-85C1-24745760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6429-DD01-43D1-8D22-B527779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B2DF-0354-40D3-B068-B968FDE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B859-A076-4AFF-971A-6E7DC82B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C0F5-57F7-42B3-91E9-F27B781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E2BE-B9E3-46AE-BDA6-7FFDE8A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F14C-15D1-4C3E-8B7F-5C8B2BE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E333-926D-4ADA-809F-3310A67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1B6-EE15-4CA8-B7F0-143EBD1E7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D85-0441-477D-A8F2-B5139549C1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Day Of August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homework sto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new sto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Lady Or the Ti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 smith’s bonus question on our test was did president carter visit karen smith md? Before or after he toured the african american and the hispanic culture fai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aeologists scientists who study the objects belonging to long ago cultures might think of themselfs as puzzle solv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ant:Dominate::________:Instru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:Overture::_________:no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 K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r. Smith’s bonus question on our test was, “Did President Carter visit Karen Smith, MD, before or after he toured the African American and the Hispanic culture fairs?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chaeologists, scientists who study the objects belonging to long-ago cultures might think of themselves as puzzle solv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ady or The Tig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ugh choices writing assignment/sh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story-pag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worksheet (if we have ti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5:52:21Z</dcterms:created>
  <dc:creator>Angie</dc:creator>
  <dc:description/>
  <dc:language>en-US</dc:language>
  <cp:lastModifiedBy>student</cp:lastModifiedBy>
  <dcterms:modified xsi:type="dcterms:W3CDTF">2010-08-30T17:21:33Z</dcterms:modified>
  <cp:revision>4</cp:revision>
  <dc:subject/>
  <dc:title>Sept.1 Agenda</dc:title>
</cp:coreProperties>
</file>